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99212629424"/>
          <c:y val="0.0199460107978404"/>
          <c:w val="0.696941065312389"/>
          <c:h val="0.9397870425914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PhD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61</c:v>
                </c:pt>
                <c:pt idx="1">
                  <c:v>585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Master's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14529</c:v>
                </c:pt>
                <c:pt idx="1">
                  <c:v>632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Bachelor's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2"/>
                <c:pt idx="0">
                  <c:v>37388</c:v>
                </c:pt>
                <c:pt idx="1">
                  <c:v>64904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Projected Job Openings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2"/>
                <c:pt idx="0">
                  <c:v>142900</c:v>
                </c:pt>
                <c:pt idx="1">
                  <c:v>6000</c:v>
                </c:pt>
              </c:numCache>
            </c:numRef>
          </c:val>
        </c:ser>
        <c:gapWidth val="100"/>
        <c:overlap val="0"/>
        <c:axId val="38533446"/>
        <c:axId val="12206051"/>
      </c:barChart>
      <c:catAx>
        <c:axId val="38533446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206051"/>
        <c:crossesAt val="0"/>
        <c:auto val="1"/>
        <c:lblAlgn val="ctr"/>
        <c:lblOffset val="100"/>
        <c:noMultiLvlLbl val="0"/>
      </c:catAx>
      <c:valAx>
        <c:axId val="122060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#,##0\ ;&quot; (&quot;#,##0\);\-#\ ;@\ 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33446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36978859100036"/>
          <c:y val="0.30698860227954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5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2E6B-C7B5-4C84-8AFC-4EA99083D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F1AA-A3CA-4978-9258-B953F2AD5779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to Java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ucture of 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ery executable Java program consists of a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at contains a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at contains th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commands) to be execu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68640" y="1146240"/>
            <a:ext cx="3529800" cy="398880"/>
            <a:chOff x="3068640" y="1146240"/>
            <a:chExt cx="3529800" cy="398880"/>
          </a:xfrm>
        </p:grpSpPr>
        <p:sp>
          <p:nvSpPr>
            <p:cNvPr id="129" name=""/>
            <p:cNvSpPr/>
            <p:nvPr/>
          </p:nvSpPr>
          <p:spPr>
            <a:xfrm>
              <a:off x="3834720" y="11462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068640" y="12477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743200" y="3316320"/>
            <a:ext cx="5852520" cy="779760"/>
            <a:chOff x="2743200" y="3316320"/>
            <a:chExt cx="5852520" cy="779760"/>
          </a:xfrm>
        </p:grpSpPr>
        <p:sp>
          <p:nvSpPr>
            <p:cNvPr id="132" name=""/>
            <p:cNvSpPr/>
            <p:nvPr/>
          </p:nvSpPr>
          <p:spPr>
            <a:xfrm>
              <a:off x="3136320" y="369720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2743200" y="3316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68600" y="2028960"/>
            <a:ext cx="5783040" cy="1084680"/>
            <a:chOff x="3468600" y="2028960"/>
            <a:chExt cx="5783040" cy="1084680"/>
          </a:xfrm>
        </p:grpSpPr>
        <p:sp>
          <p:nvSpPr>
            <p:cNvPr id="135" name=""/>
            <p:cNvSpPr/>
            <p:nvPr/>
          </p:nvSpPr>
          <p:spPr>
            <a:xfrm>
              <a:off x="3468600" y="24098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4190760" y="20289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urier New"/>
              </a:rPr>
              <a:t>System.out.printl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statement that prints a line of output on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nounced "print-lin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metimes called a "println statement" for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wo ways to us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the given message as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a blank line of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mes and identifi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 must give your program a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3399"/>
                </a:solidFill>
                <a:latin typeface="Courier New"/>
              </a:rPr>
              <a:t>GangstaRap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aming convention: capitalize each word (e.g.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yClassNam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r program's file must match exactly (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GangstaRap.java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cludes capitalization (Java is "case-sensitive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dentifi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 given to an item in your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st start with a letter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ubsequent characters can be any of those or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00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legal:</a:t>
            </a: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urier New"/>
              </a:rPr>
              <a:t>_myName   TheCure   ANSWER_IS_42   $bling$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illegal: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me+u      49ers     side-swipe     Ph.D'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Keywor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keywor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n identifier that you cannot use because it already has a reserved meaning in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bstract    default    if           private      th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oolean     do         implements   protected   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reak       double     import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thr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yte        else       instanceof   return       trans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se        extends    int          short        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tch       final      interface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       finally    long         strictfp     volat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float      native       super        wh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st       for        new          swi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inue    goto       package      synchron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set of legal structures and commands that can be used in a particular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very basic Java statement ends with a semicolon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ntents of a class or method occur between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piler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: A problem in the structure of a program that causes the compiler to fa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issing semicol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o many or too few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br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llegal identifier for class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lass and file names do not ma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 err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public class Hell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p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o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System.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w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println("Hello, world!")_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iler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&lt;identifier&gt;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oo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';'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 err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mpiler shows the line number where it found the err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error messages can be tough to understan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quence of characters to be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tarts and ends with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quote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quotes do not appear in the outp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hello"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This is a string.  It's very long!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tri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span multiple lines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</a:t>
            </a:r>
            <a:br>
              <a:rPr sz="20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a legal Str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contain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 a "legal" String eith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scape sequ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scape sequenc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pecial sequence of characters used to represent certain special characters in a string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t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ab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n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ew line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"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quotation mark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ckslash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r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hello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re "you"?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is the output of the following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ta\tb\tc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'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"\"\"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C:\nin\the downward spir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e a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i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/ \ // \\ /// \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utput of each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       b      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C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     he downward spir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e line of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/ \\ // \\\\ /// \\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computer science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udy of theoretical foundations of information and computation and their implementation and application in computer systems.  -- Wikiped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sub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s, Computer 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ientific Comp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bases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ational Linguistics, Natural Language Processing 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verlap with CS and EE; emphasizes hardw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gram prints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quote from the Gettysburg Addr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Four score and seven years ago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ur 'fore fathers' brought forth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continent a new nation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 "quoted" String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much' better if you lea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e rules of "escape sequences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so, "" represents an empty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on't forget: use \" instead of "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' is not the same as 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program prints 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quote from the Gettysburg Addres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\"Four score and seven years ago,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our 'fore fathers' brought forth on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continent a new nation.\"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 \"quoted\" String is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much' better if you learn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the rules of \"escape sequences.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lso, \"\" represents an empty String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't forget: use \\\" instead of \" !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' is not the same as 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men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ote written in source code by the programmer to describe or clarify the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mments are not executed when your program ru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, on one line</a:t>
            </a:r>
            <a:br>
              <a:rPr sz="2200"/>
            </a:b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,</a:t>
            </a:r>
            <a:br>
              <a:rPr sz="2200"/>
            </a:b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*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; may span multiple lines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/ This is a one-line com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* This is a very lo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multi-line comment. 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Using 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re to place 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top of each file (a "comment header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start of every method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 explain complex pieces of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ments are useful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Understanding larger, more complex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ltiple programmers working together, who must understand each other's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* Suzy Student, CS 101, Fall 20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This program prints lyrics about ... something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BaWitDaBa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first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Bawitdab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a bang a dang diggy dig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second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iggy said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said up jump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tatic metho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1923" t="2389" r="3037" b="1964"/>
          <a:stretch/>
        </p:blipFill>
        <p:spPr>
          <a:xfrm>
            <a:off x="6477120" y="2876400"/>
            <a:ext cx="2365200" cy="2381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list of steps for solving a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 algorithm: "Bake sugar cookie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s with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ck of stru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ny tiny steps; tough to reme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nsider making a double batch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Place the first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Place the second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ingredients for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uctured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uctured 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Split into coherent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Make the cookie bat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2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Bake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dd frosting and sprink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ingredients for the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ell-structured algorithm can describe repeated tasks with less redundan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Make the cookie ba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a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first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b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second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Decorate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S job mark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Object 2"/>
          <p:cNvGraphicFramePr/>
          <p:nvPr/>
        </p:nvGraphicFramePr>
        <p:xfrm>
          <a:off x="766800" y="1523880"/>
          <a:ext cx="8300880" cy="4321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92" name="Text Box 3"/>
          <p:cNvSpPr/>
          <p:nvPr/>
        </p:nvSpPr>
        <p:spPr>
          <a:xfrm>
            <a:off x="642960" y="6086520"/>
            <a:ext cx="7880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SOURCES: Tabulated by National Science Foundation/Division of Science Resources Statistics; data from Department of Education/National Center for Education Statistics:  Integrated Postsecondary Education Data System Completions Survey; and NSF/SRS: S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 program with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d group of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notes the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structu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of a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iminates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by code re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procedural decompositio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ividing a problem into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ing a static method is lik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ding a new command to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43600" y="1928880"/>
            <a:ext cx="3048120" cy="4572000"/>
            <a:chOff x="5943600" y="1928880"/>
            <a:chExt cx="3048120" cy="4572000"/>
          </a:xfrm>
        </p:grpSpPr>
        <p:sp>
          <p:nvSpPr>
            <p:cNvPr id="181" name=""/>
            <p:cNvSpPr/>
            <p:nvPr/>
          </p:nvSpPr>
          <p:spPr>
            <a:xfrm>
              <a:off x="5943600" y="1928880"/>
              <a:ext cx="304812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5880" y="233028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5880" y="3833640"/>
              <a:ext cx="274320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5880" y="499752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Using static method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 Design the algorith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ook at the structure, and which command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ecide what are the important overall task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eclar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write dow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rrange statements into groups and give each group a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l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ru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program's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method executes the other methods to perform the overall tas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sign of an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a: Bake cookies (first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b: Bake cookies (second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994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Gives your method a name so it can be exec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br>
              <a:rPr sz="2400"/>
            </a:br>
            <a:br>
              <a:rPr sz="8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0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4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2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clar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all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Executes the method's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 can call the same method many times if you li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FreshPrin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(running) the rap metho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the rap method agai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method prints the lyrics to my favorite s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ra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Now this is the story all about how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y life got flipped turned upside-down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inal cookie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akeBatt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1st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2nd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corat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makeBatter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: Bake a batch of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bak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decorat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Methods call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1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a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n a method is called, the program's exec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into that method, executing its statements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back to the point where the method was ca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43200" y="3244680"/>
            <a:ext cx="6324480" cy="719280"/>
            <a:chOff x="2743200" y="3244680"/>
            <a:chExt cx="6324480" cy="719280"/>
          </a:xfrm>
        </p:grpSpPr>
        <p:sp>
          <p:nvSpPr>
            <p:cNvPr id="201" name=""/>
            <p:cNvSpPr/>
            <p:nvPr/>
          </p:nvSpPr>
          <p:spPr>
            <a:xfrm>
              <a:off x="397800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320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274320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14240" y="4160880"/>
            <a:ext cx="6553440" cy="1401840"/>
            <a:chOff x="2514240" y="4160880"/>
            <a:chExt cx="6553440" cy="1401840"/>
          </a:xfrm>
        </p:grpSpPr>
        <p:sp>
          <p:nvSpPr>
            <p:cNvPr id="205" name=""/>
            <p:cNvSpPr/>
            <p:nvPr/>
          </p:nvSpPr>
          <p:spPr>
            <a:xfrm>
              <a:off x="3965400" y="416088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90560" y="423720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2514240" y="431316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209" name="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ntrol flo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programming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t of instruct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be carried out by a compu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 executi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act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rying out the instruction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ained in a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ming languag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ystematic set of rules used to describe computations in a format that is editable by huma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is textbook teaches programming in a language named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327" t="810" r="0" b="0"/>
          <a:stretch/>
        </p:blipFill>
        <p:spPr>
          <a:xfrm>
            <a:off x="6477120" y="1523880"/>
            <a:ext cx="212076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us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ce statements into a static method i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lated structurally, and/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should not create static methods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dividua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blank lines. (Put blank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related or weakly related statem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nsider splitting them into two smaller method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rawing complex figures with static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print these figures using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1905120"/>
            <a:ext cx="647676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First version (unstructure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 an empty program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py the expected output into it, surrounding each line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yn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un it to verify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1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econd version (structured, with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the structure of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 into static methods based on this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5638680"/>
            <a:ext cx="12189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4114800"/>
            <a:ext cx="121896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2995560"/>
            <a:ext cx="121896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828800"/>
            <a:ext cx="12189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uct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1905120"/>
            <a:ext cx="647676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tructure of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itial "egg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cond "teacup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rd "stop sign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ourth "hat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structure can be represent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aC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p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Third version (structured, without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redundancy in the output, and create methods to eliminate as much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d comments to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influential 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2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FORTR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cience / engine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sines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IS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gic and A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simple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10240" y="1295280"/>
            <a:ext cx="3824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6275520"/>
            <a:ext cx="10670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3473280"/>
            <a:ext cx="10670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87692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301608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236844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038480"/>
            <a:ext cx="1067040" cy="60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5675400"/>
            <a:ext cx="1067040" cy="590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758960"/>
            <a:ext cx="1067040" cy="609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2286000"/>
            <a:ext cx="640080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redundancy in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top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stop sign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bottom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teacup, stop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r lin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sed on teacup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redundancy can be fix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uzy Student, CSE 138, Spring 209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several figures, with methods for structure and redundanc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top half of an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To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bottom half of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Botto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complete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teacup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stop sign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figure that looks sort of like a ha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line of dash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lin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modern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cedural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are a series of comm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sc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0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du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2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-level operating systems and device 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unctional programm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functions map inputs to outpu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s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58) /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he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5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3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aske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-oriented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use interacting "object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malltal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0): first major object-oriented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object-oriented" improvements to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ccessful in industry; used to build major OSes such as Wind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mbedded systems, web apps/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ns on many platforms (Windows, Mac, Linux, cell phones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anguage taught in this textbo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asic Java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state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ile/run 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de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sourc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set of instruction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ranslate a program from one language to an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Java compiler converts your code into a format named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hat runs on many computer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ecute)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output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messages printed to the user by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Group 12"/>
          <p:cNvGrpSpPr/>
          <p:nvPr/>
        </p:nvGrpSpPr>
        <p:grpSpPr>
          <a:xfrm>
            <a:off x="458640" y="5059440"/>
            <a:ext cx="1646280" cy="1646280"/>
            <a:chOff x="458640" y="5059440"/>
            <a:chExt cx="1646280" cy="1646280"/>
          </a:xfrm>
        </p:grpSpPr>
        <p:sp>
          <p:nvSpPr>
            <p:cNvPr id="106" name="Rectangle 13"/>
            <p:cNvSpPr/>
            <p:nvPr/>
          </p:nvSpPr>
          <p:spPr>
            <a:xfrm>
              <a:off x="458640" y="5059440"/>
              <a:ext cx="1646280" cy="164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482760" y="5106960"/>
              <a:ext cx="160020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 c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5" descr=""/>
            <p:cNvPicPr/>
            <p:nvPr/>
          </p:nvPicPr>
          <p:blipFill>
            <a:blip r:embed="rId1"/>
            <a:stretch/>
          </p:blipFill>
          <p:spPr>
            <a:xfrm>
              <a:off x="838080" y="5592600"/>
              <a:ext cx="889200" cy="9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2104560" y="5057640"/>
            <a:ext cx="3151800" cy="1646280"/>
            <a:chOff x="2104560" y="5057640"/>
            <a:chExt cx="3151800" cy="1646280"/>
          </a:xfrm>
        </p:grpSpPr>
        <p:pic>
          <p:nvPicPr>
            <p:cNvPr id="110" name="Picture 6" descr=""/>
            <p:cNvPicPr/>
            <p:nvPr/>
          </p:nvPicPr>
          <p:blipFill>
            <a:blip r:embed="rId2"/>
            <a:stretch/>
          </p:blipFill>
          <p:spPr>
            <a:xfrm>
              <a:off x="2695680" y="5980320"/>
              <a:ext cx="342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8"/>
            <p:cNvSpPr/>
            <p:nvPr/>
          </p:nvSpPr>
          <p:spPr>
            <a:xfrm>
              <a:off x="2318040" y="5446800"/>
              <a:ext cx="10677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mp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6"/>
            <p:cNvGrpSpPr/>
            <p:nvPr/>
          </p:nvGrpSpPr>
          <p:grpSpPr>
            <a:xfrm>
              <a:off x="3610080" y="5057640"/>
              <a:ext cx="1646280" cy="1646280"/>
              <a:chOff x="3610080" y="5057640"/>
              <a:chExt cx="1646280" cy="1646280"/>
            </a:xfrm>
          </p:grpSpPr>
          <p:pic>
            <p:nvPicPr>
              <p:cNvPr id="113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7200" y="5597280"/>
                <a:ext cx="93024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18"/>
              <p:cNvSpPr/>
              <p:nvPr/>
            </p:nvSpPr>
            <p:spPr>
              <a:xfrm>
                <a:off x="3610080" y="5057640"/>
                <a:ext cx="1646280" cy="1646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9"/>
              <p:cNvSpPr/>
              <p:nvPr/>
            </p:nvSpPr>
            <p:spPr>
              <a:xfrm>
                <a:off x="3787920" y="5105160"/>
                <a:ext cx="1288800" cy="10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8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byte co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16" name="Straight Arrow Connector 37"/>
            <p:cNvCxnSpPr/>
            <p:nvPr/>
          </p:nvCxnSpPr>
          <p:spPr>
            <a:xfrm>
              <a:off x="2104560" y="5879880"/>
              <a:ext cx="150588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  <p:grpSp>
        <p:nvGrpSpPr>
          <p:cNvPr id="117" name=""/>
          <p:cNvGrpSpPr/>
          <p:nvPr/>
        </p:nvGrpSpPr>
        <p:grpSpPr>
          <a:xfrm>
            <a:off x="5257800" y="5051520"/>
            <a:ext cx="3886200" cy="1235160"/>
            <a:chOff x="5257800" y="5051520"/>
            <a:chExt cx="3886200" cy="1235160"/>
          </a:xfrm>
        </p:grpSpPr>
        <p:pic>
          <p:nvPicPr>
            <p:cNvPr id="118" name="Picture 7" descr=""/>
            <p:cNvPicPr/>
            <p:nvPr/>
          </p:nvPicPr>
          <p:blipFill>
            <a:blip r:embed="rId4"/>
            <a:stretch/>
          </p:blipFill>
          <p:spPr>
            <a:xfrm>
              <a:off x="5819760" y="5982120"/>
              <a:ext cx="25704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9"/>
            <p:cNvSpPr/>
            <p:nvPr/>
          </p:nvSpPr>
          <p:spPr>
            <a:xfrm>
              <a:off x="5428080" y="5448600"/>
              <a:ext cx="57708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u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7452000" y="5051520"/>
              <a:ext cx="9885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35" descr="hello.PNG"/>
            <p:cNvPicPr/>
            <p:nvPr/>
          </p:nvPicPr>
          <p:blipFill>
            <a:blip r:embed="rId5"/>
            <a:srcRect l="0" t="0" r="13648" b="0"/>
            <a:stretch/>
          </p:blipFill>
          <p:spPr>
            <a:xfrm>
              <a:off x="6734160" y="5448600"/>
              <a:ext cx="2409840" cy="838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2" name="Straight Arrow Connector 39"/>
            <p:cNvCxnSpPr/>
            <p:nvPr/>
          </p:nvCxnSpPr>
          <p:spPr>
            <a:xfrm>
              <a:off x="5257800" y="5881680"/>
              <a:ext cx="150552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Hello, world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This program produc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four lines of output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gram produ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four lines of out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o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ext box into whic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program's output is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867280" y="4775040"/>
            <a:ext cx="3276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58:25Z</dcterms:modified>
  <cp:revision>116</cp:revision>
  <dc:subject/>
  <dc:title>CSE 142 Python Slides</dc:title>
</cp:coreProperties>
</file>