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20FE-1742-4EB6-BF37-5A7EE079A9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6DB3-84F8-40DF-87C1-5E33BE4DCC8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B1C8-7499-46CB-855D-C7C9A150186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6517C-43FA-4B1F-85DD-4FD45ABB4662}"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4C2CC-AFF3-44D1-BCE4-99805ACD3D6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88F6-4CCB-4EA4-A521-98E47F9163E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FCAD5-7A65-4EAF-BEA7-05BBD780C89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AAA3-78CE-4D70-B2B6-1F11D9AC82B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989D7-B5AD-4298-8E67-46D7074ACDD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1F2D5-0A22-4BC0-807B-7A0F829BBF3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4B69B-BD0B-4602-9F0D-310F71DCFD1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66C9-225E-48E5-95A0-003977D638A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C448-CCB6-4794-9E38-AFEF7970FA7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ACA93-F02C-455B-8B50-71F9BCC57E6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DE659-D01D-48D9-9AFC-E085DCE22FFE}"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A1850-7CCB-4017-BB1F-B47C57E2DD78}"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8A8CE-8F04-497E-AFF6-01FEAD874721}"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06:32Z</dcterms:modified>
  <cp:revision>117</cp:revision>
  <dc:subject/>
  <dc:title>CSE 142 Python Slides</dc:title>
</cp:coreProperties>
</file>