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B656-F9F0-4485-AE74-BE8BB799D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30320-449B-4979-827F-8CE902F1F864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1:39Z</dcterms:modified>
  <cp:revision>119</cp:revision>
  <dc:subject/>
  <dc:title>CSE 142 Python Slides</dc:title>
</cp:coreProperties>
</file>