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BDAB-22CB-4231-B91A-49311A30F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5326-D410-4E66-BBA4-C9B966203D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7945-AC81-4EF3-A742-81CE56F595A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 -&gt;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24:20Z</dcterms:modified>
  <cp:revision>122</cp:revision>
  <dc:subject/>
  <dc:title>CSE 142 Python Slides</dc:title>
</cp:coreProperties>
</file>