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01D28-E716-4141-8C84-93F5FC0508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4EDE7-C109-4DBB-97CD-08B81DDA3EB2}"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923B9-111C-477F-918B-C84E82400E78}"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28:10Z</dcterms:modified>
  <cp:revision>123</cp:revision>
  <dc:subject/>
  <dc:title>CSE 142 Python Slides</dc:title>
</cp:coreProperties>
</file>