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FDC-04EA-4996-BABB-241EC9C0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F1EFC-BEE7-4363-82C1-1BB464C03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93B4-8D69-4237-B25D-28C1698453C7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51B9-ED69-4E7F-AF07-9FA871786324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2:10Z</dcterms:modified>
  <cp:revision>125</cp:revision>
  <dc:subject/>
  <dc:title>CSE 142 Python Slides</dc:title>
</cp:coreProperties>
</file>