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F124-A5C0-411D-BCF0-97BD52AFE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18A6-164C-49FC-99CB-742BEE5FB0F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6:24Z</dcterms:modified>
  <cp:revision>124</cp:revision>
  <dc:subject/>
  <dc:title>CSE 142 Python Slides</dc:title>
</cp:coreProperties>
</file>