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5245-4D82-4DAD-A4DA-5F578054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3BF7-D523-46C3-919C-9089DEFE73A1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2:50Z</dcterms:modified>
  <cp:revision>115</cp:revision>
  <dc:subject/>
  <dc:title>CSE 142 Python Slides</dc:title>
</cp:coreProperties>
</file>