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A89D-41D2-4F4B-BEF1-F488B684C5D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Collections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for each" loop (7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clean syntax for looping over the elements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rray, or other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Double&gt; grades = new HashSet&lt;Double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double grade : grade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udent's grade: " + grad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because sets have no indexes; can'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vs. 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t is like a map from element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t:  Is "Marty" found in the set? (true/fal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ap:  What is "Marty" 's phone numb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4382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7640" y="2473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02560" y="2478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8840" y="2935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4952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7640" y="4987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410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98000" y="49928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ges.keySet() returns Set&lt;Strin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pposite mapp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legal to have a map of sets, a list of list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keep track of each TA's GPA by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Jared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Alyssa", 4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ve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f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Rob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Jared's GPA is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Gpa.get("Jared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doesn't let us easily ask which TAs got a given G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structure a map for tha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ing a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verse the mapping to be from GPAs to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??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than one TA can have the same GP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p will store only the last mapping we a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per map revers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ly each GPA maps to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llection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peo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Hash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4.0).add(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red, Stef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careful to initialize the set for a given GPA before add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ord count program to print every word that appeared in the book at least 1000 times, in sorted order from least to most occurren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list of TA names and quarters' experience, then prints the quarters in increasing order of how many TAs have that much experience, along with thei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lison 5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1 qtr: [Brian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yssa 8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2 qtr: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Brian 1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5 qtr: [Allison, Kase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Kasey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te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1.1;  15.3;  16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sets and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Jav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't be accessed by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use a "foreach" loop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Integer&gt; scores = new HashSe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foreach is read-only; cannot modify set while loo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ConcurrentModification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cores.remove(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terator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ny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, and lets you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71480" y="4067280"/>
          <a:ext cx="4557600" cy="1185840"/>
        </p:xfrm>
        <a:graphic>
          <a:graphicData uri="http://schemas.openxmlformats.org/drawingml/2006/table">
            <a:tbl>
              <a:tblPr/>
              <a:tblGrid>
                <a:gridCol w="782640"/>
                <a:gridCol w="366840"/>
                <a:gridCol w="368280"/>
                <a:gridCol w="368280"/>
                <a:gridCol w="366480"/>
                <a:gridCol w="370080"/>
                <a:gridCol w="460440"/>
                <a:gridCol w="368280"/>
                <a:gridCol w="369720"/>
                <a:gridCol w="368280"/>
                <a:gridCol w="36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40040" y="444816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0640" y="4905000"/>
            <a:ext cx="3240360" cy="1295280"/>
            <a:chOff x="350640" y="4905000"/>
            <a:chExt cx="3240360" cy="1295280"/>
          </a:xfrm>
        </p:grpSpPr>
        <p:sp>
          <p:nvSpPr>
            <p:cNvPr id="161" name=""/>
            <p:cNvSpPr/>
            <p:nvPr/>
          </p:nvSpPr>
          <p:spPr>
            <a:xfrm>
              <a:off x="1381320" y="551484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448000" y="4905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06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213240" y="43862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786720" y="3962520"/>
            <a:ext cx="1366560" cy="1447560"/>
            <a:chOff x="6786720" y="3962520"/>
            <a:chExt cx="1366560" cy="1447560"/>
          </a:xfrm>
        </p:grpSpPr>
        <p:sp>
          <p:nvSpPr>
            <p:cNvPr id="166" name=""/>
            <p:cNvSpPr/>
            <p:nvPr/>
          </p:nvSpPr>
          <p:spPr>
            <a:xfrm>
              <a:off x="6786720" y="3962520"/>
              <a:ext cx="1366560" cy="1447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39160" y="41144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13720" y="44956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06240" y="48909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09880" y="4509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w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989240" y="5210280"/>
            <a:ext cx="3697560" cy="990000"/>
            <a:chOff x="4989240" y="5210280"/>
            <a:chExt cx="3697560" cy="990000"/>
          </a:xfrm>
        </p:grpSpPr>
        <p:sp>
          <p:nvSpPr>
            <p:cNvPr id="172" name=""/>
            <p:cNvSpPr/>
            <p:nvPr/>
          </p:nvSpPr>
          <p:spPr>
            <a:xfrm>
              <a:off x="6019920" y="5514840"/>
              <a:ext cx="26668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x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315200" y="5210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892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returns an iterator over it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3840" y="1371600"/>
          <a:ext cx="8915400" cy="190800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(throw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n'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Integer&gt; scores = new TreeSe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38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Ki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43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Integer&gt; itr = scores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gr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// [72, 87, 9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scor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Kim", 3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Lisa", 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Roy", 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ty", 4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isa", 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String&gt; itr = scores.keySet()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scores.get(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 + " got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name and sc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{Lisa=94, Marisa=72, Roy=87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Book Search program from last lecture to eliminate any words that are plural or all-uppercase from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TA quarters experience program so that it eliminates any TAs with 3 quarters or fewer of experi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count the occurrences of each word in a large text file (e.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 the user to type a word and report how many times that word appeared in the boo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ort all words that appeared in the book at least 500 times, in alphabetical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ill we store the data to solve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Holds a set of uniqu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each key is associated with one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.k.a. "dictionary", "associative array", "has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map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Adds a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ing from a key t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trieve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 mapped to the ke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mo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iven key and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76920" y="2994120"/>
            <a:ext cx="4038480" cy="2949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67000" y="6186600"/>
            <a:ext cx="49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ap.get("Juliet"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Capule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and tally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can be thought of as generalization of a tallying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"index" (key) doesn't have to b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0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previous tallying examples from CSE 1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digit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209231090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(M)cCain, (O)bama, (I)ndepend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vote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MOOOOOOMMMMMOOOOOOMOMMIMOMMIMOMMIO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00440" y="2943360"/>
          <a:ext cx="40860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330120"/>
                <a:gridCol w="330120"/>
                <a:gridCol w="330120"/>
                <a:gridCol w="330480"/>
                <a:gridCol w="331560"/>
                <a:gridCol w="330120"/>
                <a:gridCol w="330480"/>
                <a:gridCol w="330120"/>
                <a:gridCol w="330120"/>
                <a:gridCol w="3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9718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95480" y="5153040"/>
          <a:ext cx="2638080" cy="790560"/>
        </p:xfrm>
        <a:graphic>
          <a:graphicData uri="http://schemas.openxmlformats.org/drawingml/2006/table">
            <a:tbl>
              <a:tblPr/>
              <a:tblGrid>
                <a:gridCol w="855000"/>
                <a:gridCol w="636480"/>
                <a:gridCol w="619200"/>
                <a:gridCol w="52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M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I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5340960" y="5086440"/>
            <a:ext cx="3269520" cy="1697040"/>
            <a:chOff x="5340960" y="5086440"/>
            <a:chExt cx="3269520" cy="1697040"/>
          </a:xfrm>
        </p:grpSpPr>
        <p:sp>
          <p:nvSpPr>
            <p:cNvPr id="196" name=""/>
            <p:cNvSpPr/>
            <p:nvPr/>
          </p:nvSpPr>
          <p:spPr>
            <a:xfrm>
              <a:off x="541008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28840" y="51624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40960" y="5543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71960" y="601488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I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520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38120" y="60148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94880" y="5619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4760" y="50864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6760" y="546732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867280" y="531504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324480" y="5847840"/>
              <a:ext cx="1676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77560" y="6413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ke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39120" y="64152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map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n array called a "hash tabl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tremel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as a linked "binary tree" structu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p requires 2 type parameters: one for keys, one fo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maps from String keys to Integer valu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votes = new Hash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320840"/>
          <a:ext cx="8891640" cy="3255840"/>
        </p:xfrm>
        <a:graphic>
          <a:graphicData uri="http://schemas.openxmlformats.org/drawingml/2006/table">
            <a:tbl>
              <a:tblPr/>
              <a:tblGrid>
                <a:gridCol w="2365560"/>
                <a:gridCol w="6526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 mapping from the given key to the given value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the key already exists, replaces its value with the given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mapped to the given key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Key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 contains a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xisting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key/value pairs from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key/value pair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's size is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{a=90, d=60, c=70}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55520" y="4816440"/>
          <a:ext cx="8888400" cy="1508040"/>
        </p:xfrm>
        <a:graphic>
          <a:graphicData uri="http://schemas.openxmlformats.org/drawingml/2006/table">
            <a:tbl>
              <a:tblPr/>
              <a:tblGrid>
                <a:gridCol w="2362320"/>
                <a:gridCol w="6526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keySe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et of all key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u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collection of all value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ds all key/value pairs from the given map to this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given map has the same mappings as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allows you to get from one half of a pair to the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one piece of information about every index (key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, we can supply only the key and get back the related valu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us to ask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hat is Marty's phone numb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5181480"/>
            <a:ext cx="221004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451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4720" y="51055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("Mart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1560" y="5805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6120" y="2666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31240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59480" y="24829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  key     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t("Marty", "206-685-2181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58053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counts the number of unique words in a large text file (say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the words in a collection and report the # of unique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've created this collection, allow the user to search it to see whether various words appear in the text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llection is appropriate for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ad file into a map of [word --&gt; number of occurrences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&lt;String, Integer&gt; wordCount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mobydick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containsKey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en this word before; increase count by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get(wo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count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ever seen this word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ord to search for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ppears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ordCount.get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time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set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ormal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words or symbo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mm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escription of a language that describes which sequences of symbols are allowed in that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languag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rules) but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mantic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mean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used to generate strings from a language, or to determine whether a given string belongs to a given langu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us-Naur (BNF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us-Naur Form (BNF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yntax for describing language grammars in terms of transforma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f the 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fundamental symbol of the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on-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igh-level symbol describing language syntax, which can be transformed into other non-terminal or terminal symbol(s) based on the rules of the gramm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ed by two Turing-award-winning computer scientists in 1960 to describe their new ALGOL programming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example BNF gramm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ty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ar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invisibl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romantic ball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s and 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ad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p&gt;::=&lt;adj&gt;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adjp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| &lt;adj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mar rules can be defin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ursive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that the expansion of a symbol can contain that same symb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must also be expressions that expand the symbol into something non-recursive, so that the recursion eventually en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, final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dp&gt; &lt;adjp&gt; &lt;n&gt;|&lt;p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the|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p&gt;::=&lt;adj&gt;|&lt;adj&gt; &lt;adj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big|fat|green|wonderful|faulty|sublimi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dog|cat|man|university|father|mother|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John|Jane|Sally|Spot|Fred|El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p&gt;::=&lt;tv&gt; &lt;np&gt;|&lt;i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v&gt;::=hit|honored|kissed|hel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v&gt;::=died|collapsed|laughed|we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this grammar generate the following senten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ed honored the green wonderful 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g Jane wept the fat man f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a random sentence using this gramm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irical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ning a program and measuring its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currentTimeMilli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representing the number of milliseconds that have passed since 12:00am, January 1, 197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sult is returned a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s lik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ut with a larger numeric range (64 bits vs. 3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alled twice to see how many milliseconds have elapsed between two point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time does it take to sto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ence gen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600" y="1295280"/>
            <a:ext cx="8686800" cy="4827240"/>
            <a:chOff x="228600" y="1295280"/>
            <a:chExt cx="8686800" cy="4827240"/>
          </a:xfrm>
        </p:grpSpPr>
        <p:sp>
          <p:nvSpPr>
            <p:cNvPr id="245" name=""/>
            <p:cNvSpPr/>
            <p:nvPr/>
          </p:nvSpPr>
          <p:spPr>
            <a:xfrm>
              <a:off x="1165320" y="12952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s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5800" y="20448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27280" y="204480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v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" y="27954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p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860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1484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tv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1388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27280" y="5673960"/>
              <a:ext cx="13114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ono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13880" y="361908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d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42560" y="3619080"/>
              <a:ext cx="11239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03920" y="36190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1388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4880" y="4287240"/>
              <a:ext cx="11242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99600" y="4287240"/>
              <a:ext cx="1017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440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h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9304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11080" y="4924440"/>
              <a:ext cx="10180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04880" y="5673960"/>
              <a:ext cx="14986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onde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977400" y="1749240"/>
              <a:ext cx="561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7080" y="1749240"/>
              <a:ext cx="534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49800" y="2498760"/>
              <a:ext cx="207000" cy="30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09320" y="2498760"/>
              <a:ext cx="16740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600" y="3247200"/>
              <a:ext cx="20880" cy="24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83200" y="3241800"/>
              <a:ext cx="9360" cy="243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23000" y="2498760"/>
              <a:ext cx="114300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869640" y="3255480"/>
              <a:ext cx="1224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68920" y="4064400"/>
              <a:ext cx="18360" cy="16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95920" y="3255480"/>
              <a:ext cx="1678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09240" y="3255480"/>
              <a:ext cx="369216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490360" y="4080240"/>
              <a:ext cx="61416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8200" y="4080240"/>
              <a:ext cx="47988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66840" y="4737240"/>
              <a:ext cx="504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07520" y="5378400"/>
              <a:ext cx="11952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327640" y="4751640"/>
              <a:ext cx="5004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93080" y="4080240"/>
              <a:ext cx="321480" cy="15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(11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90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95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set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hash table" array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binary search tre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tt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80808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 but stores in order of inse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String&gt; list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Integer&gt; set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ew TreeSet&lt;Integer&gt;(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String&gt; set2 = new HashSet&lt;String&gt;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onstruct an empty set, or one based on a given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3429000"/>
          <a:ext cx="8220240" cy="2766960"/>
        </p:xfrm>
        <a:graphic>
          <a:graphicData uri="http://schemas.openxmlformats.org/drawingml/2006/table">
            <a:tbl>
              <a:tblPr/>
              <a:tblGrid>
                <a:gridCol w="2397240"/>
                <a:gridCol w="5823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the given value to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given value is found in this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given value from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set's size is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4920" y="3740040"/>
          <a:ext cx="9080280" cy="2766960"/>
        </p:xfrm>
        <a:graphic>
          <a:graphicData uri="http://schemas.openxmlformats.org/drawingml/2006/table">
            <a:tbl>
              <a:tblPr/>
              <a:tblGrid>
                <a:gridCol w="2630160"/>
                <a:gridCol w="645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collection to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is set contains every element from given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given other se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set's cont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in the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array of the elements in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5960" y="1308240"/>
            <a:ext cx="8493120" cy="18921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155600" y="3181320"/>
            <a:ext cx="7074720" cy="387360"/>
            <a:chOff x="1155600" y="3181320"/>
            <a:chExt cx="7074720" cy="387360"/>
          </a:xfrm>
        </p:grpSpPr>
        <p:sp>
          <p:nvSpPr>
            <p:cNvPr id="121" name=""/>
            <p:cNvSpPr/>
            <p:nvPr/>
          </p:nvSpPr>
          <p:spPr>
            <a:xfrm>
              <a:off x="1155600" y="31813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560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tain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1516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move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and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an unpredictable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Jak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Rober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i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Kase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Kasey, Robert, Jake, Marisa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their "natural" sorted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ke, Kasey, Marisa, Robert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: elements stored in order of inse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// [Jake, Robert, Marisa, Kasey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3:05Z</dcterms:modified>
  <cp:revision>227</cp:revision>
  <dc:subject/>
  <dc:title>CSE 142 Python Slides</dc:title>
</cp:coreProperties>
</file>