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3D12-15FC-4127-9106-10739C064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6D54-F627-4069-B5D3-A3333933A42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1:40Z</dcterms:modified>
  <cp:revision>97</cp:revision>
  <dc:subject/>
  <dc:title>CSE 142 Python Slides</dc:title>
</cp:coreProperties>
</file>