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25C5-1A6B-4935-AB18-A405B8C04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B910D-1834-4896-8B64-2E18A6124C4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9:32Z</dcterms:modified>
  <cp:revision>265</cp:revision>
  <dc:subject/>
  <dc:title>CSE 142 Python Slides</dc:title>
</cp:coreProperties>
</file>