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FF99-EE1E-450E-A251-DF3F1EDB6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0D5-FF06-4E37-8221-58050E18FC7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7:27Z</dcterms:modified>
  <cp:revision>377</cp:revision>
  <dc:subject/>
  <dc:title>CSE 142 Python Slides</dc:title>
</cp:coreProperties>
</file>