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79CE-84E6-423C-80AE-9D3CC5C7665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Streams; Exceptions; Inheri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9.3, 6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aling with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asona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-240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gain;  re-prompt user;  print a nice error messag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;  do nothing (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1828800"/>
          <a:ext cx="8915400" cy="3112920"/>
        </p:xfrm>
        <a:graphic>
          <a:graphicData uri="http://schemas.openxmlformats.org/drawingml/2006/table">
            <a:tbl>
              <a:tblPr/>
              <a:tblGrid>
                <a:gridCol w="5061240"/>
                <a:gridCol w="3854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Messag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stack trace of the line numbers where error oc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320" y="1982880"/>
            <a:ext cx="8991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360" y="2752560"/>
            <a:ext cx="89632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ding from the web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net.UR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resents a web page's UR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onnect to a URL and read data from that 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280" y="2286000"/>
          <a:ext cx="8915400" cy="3058920"/>
        </p:xfrm>
        <a:graphic>
          <a:graphicData uri="http://schemas.openxmlformats.org/drawingml/2006/table">
            <a:tbl>
              <a:tblPr/>
              <a:tblGrid>
                <a:gridCol w="5060880"/>
                <a:gridCol w="385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URL(String addre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MalformedURL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a URL object representing the given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File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Host(), getPath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otoco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getPor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various parts of the URL as strings/integ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behavi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izes the downloader to examine the given UR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 from the URL to the given file name on d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lient progra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foo b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Bad URL! Try ag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get file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out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.ht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URL ur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s downloader to read from the given UR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wnloader(String urlString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= new URL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downloader's URL and writes contents to the given fi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 in = url.openStrea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OutputStream out = new FileOut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-1 means end-of-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write(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arget file name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targetFileName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download bytes to file (print error if it fail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/O error: " + e.getMessage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lly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dd behavio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Tally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, and also prints the file to the console, and prints the number of occurrences of each kind of character in the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--Please Visit 15footstick.com our other website. ThankZ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21,  =42, !=1, "=18, #=4, %=4, ,=3, -=14, .=10, /=18, 0=15, 1=9, 2=2, 3=1, 4=5, 5=5, 6=4, 7=1, 8=3, 9=2, :=3, ;=1, &lt;=17, ==24, &gt;=17, ?=1, A=1, B=3, C=2, D=3, E=2, F=19, M=1, O=2, P=3, S=1, T=2, V=2, Z=2, _=2, a=42, b=13, c=27, d=18, e=47, f=7, g=10, h=28, i=32, j=2, k=5, l=24, m=21, n=17, o=36, p=12, q=3, r=17, s=24, t=37, u=8, v=10, w=15, x=5, y=6, z=2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ach object of the subclass also "is a(n)" object of the superclass and can be treated a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employee_manuals"/>
          <p:cNvPicPr/>
          <p:nvPr/>
        </p:nvPicPr>
        <p:blipFill>
          <a:blip r:embed="rId1"/>
          <a:stretch/>
        </p:blipFill>
        <p:spPr>
          <a:xfrm>
            <a:off x="2819520" y="4641840"/>
            <a:ext cx="35049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ion of a source or target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-bit bytes flow to (output) and from (input) strea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present many data sour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es on hard dis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computer on network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device (keyboard, mouse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606" t="4283" r="8740" b="16503"/>
          <a:stretch/>
        </p:blipFill>
        <p:spPr>
          <a:xfrm>
            <a:off x="5929200" y="2744640"/>
            <a:ext cx="2986200" cy="19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1280" t="5215" r="5774" b="5215"/>
          <a:stretch/>
        </p:blipFill>
        <p:spPr>
          <a:xfrm>
            <a:off x="5638680" y="5221440"/>
            <a:ext cx="35053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5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inherited methods/constructor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now always make $5K more than Employe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allyDownloader extend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TallyDownloader(String url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url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all Downloader construc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from URL and prints file contents and tally of each ch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p&lt;Character, Integer&gt; counts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w TreeMap&lt;Character, Integer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InputStream in = new FileIn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ch = (char)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s.containsKey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counts.get(ch)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ounts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print map of char -&gt; i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tallying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all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ut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all sources of data have the same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s minimal ability to read/write one byte at a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3197160"/>
            <a:ext cx="73580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in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various objects also have methods to get streams to read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in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320" y="4824360"/>
          <a:ext cx="8991360" cy="1550880"/>
        </p:xfrm>
        <a:graphic>
          <a:graphicData uri="http://schemas.openxmlformats.org/drawingml/2006/table">
            <a:tbl>
              <a:tblPr/>
              <a:tblGrid>
                <a:gridCol w="6184800"/>
                <a:gridCol w="280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/return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 if no bytes rema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76320" y="1828800"/>
          <a:ext cx="8991360" cy="158112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In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InputStream(byte[] by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equenceInputStream(InputStream a, InputStream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out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out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320" y="4392720"/>
          <a:ext cx="8991360" cy="2200320"/>
        </p:xfrm>
        <a:graphic>
          <a:graphicData uri="http://schemas.openxmlformats.org/drawingml/2006/table">
            <a:tbl>
              <a:tblPr/>
              <a:tblGrid>
                <a:gridCol w="6451560"/>
                <a:gridCol w="253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b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writ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also flush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flush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ces any writes in buffers to be 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6320" y="1828800"/>
          <a:ext cx="8991360" cy="182556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Out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Output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File fi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String fileNam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work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yte)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ext files, each byte is just an ASCII text charac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cast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need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InputStream in = new FileInputStream("my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.read(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8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har ch = (char) n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'Q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passed wher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wanted without cast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OutputStream out = new FileOutputStream("out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h = 'Q'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ut.write(c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/O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that must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 for the program to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I/O tasks throw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perform I/O, you must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exception yoursel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handle)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86600" y="1254240"/>
            <a:ext cx="19051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la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Keywords on a method's header that state that it may generat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I hereby announce that this method might throw an exception, and I accept the consequences if it happe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4:10Z</dcterms:modified>
  <cp:revision>493</cp:revision>
  <dc:subject/>
  <dc:title>CSE 142 Python Slides</dc:title>
</cp:coreProperties>
</file>